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60D-2304-4CCF-9A57-18D21381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C15-F6B5-4FA8-8ECC-DBA1FEE6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781-60CA-4911-B578-21668F97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1E2-8FCA-4039-A096-6124C8E9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41C8-0DC2-4E87-AD8F-B05688CD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4570-5CA3-482A-83DE-468A8447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9A4D-F28D-45B2-886E-45116F04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D193-8133-4AF5-AE5C-C9E27721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24E9-C851-4B5B-AE0F-23461CB4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9F4C-2319-492E-885F-00FC8189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D013-8A9B-43AD-B883-D8E1D297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366-8EFB-4D0E-9793-238E8211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A643-F304-4A0E-9634-DC2D8A9D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5BE4-BFD8-4FF8-B55F-D6A17EBF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39DE-B73C-4B70-8F79-3695AB98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5B90-EE4A-415C-8050-5B11CA4A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16D8-F176-4922-985C-7D7AD65D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B63-D9A0-4D16-87AF-64F3DC49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798-BF12-4E2D-A76C-9C440DBD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14D-5D05-4BFA-82C2-E1D92511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25D-01A7-4B42-90E7-B07EA6B3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966-E44A-4320-957A-6056645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C52-D2AD-47AE-BEAE-C37E6FFD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1DE-8859-4A16-9332-A5BDE2B1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9D46-2086-405A-A7ED-1A58FD88B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244E-6EF4-4A1A-B4A2-99665AF5F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hemsoc.org/viselements/pages/data/phosphorus_data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io.miami.edu/dana/%20160/phosphoruscycle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P/key.html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emicalelements.com/elements/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%2C1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emsoc.org/viselements/hires/phosphorus_2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hosphorus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a B Yoo, Devin Kim, Drew Li, Justin Yun, Raymond K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 of Phosphorus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te phosphorus has two modificat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ry phosphorus is waxy white soli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pure it is colorless and transpar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re phosphorus is insoluble in water but soluble in carbon disulph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tches fire spontaneously in a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y poisono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ver found in free n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sential ingredient of all cell protoplasm, nervous tissue, and b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commonly found as phosph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of DNA materials and energy distrib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s of Phosphor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make waterproof matches, pyrotechnics, smoke screens, tracer bullets, and incendiary she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fertiliz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produce special glasses, for example sodium lamp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s,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ium Phosphate is used to create fine Chinawar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calcium Phosphate used to make baking powde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making steel, and Phosphor Bronz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used as a cleaning agent, water softener, and also prevents corrosion in pip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zards and Ris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rely tox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te form is more toxic than red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onic poisoning leads to necrosis of jaw (phossy-jaw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osphate pollution comes from detergents, insecticides, and fertiliz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organic phosphorus is harm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hosphorus cycle does not have a gas phase, but small amounts of phosphoric acid rise into the atmosphere, contributing to acidic precipitation.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ater, carbon, and sulfur cycles all include at least one phase in which the element is in its gaseous state. The largest reservoir of phosphorus is in sedimentary ro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_data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762120"/>
            <a:ext cx="60958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hosphoruscycl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19040" y="571680"/>
            <a:ext cx="65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Chemist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sential element of lif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osphorus is a Group 15 (5A) el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mbol: 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omic number: 1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omic mass: 30.97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: colorless/ red/ silvery whi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 of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st of the cy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orus has only one form – phosph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ways part of an organism, dissolved in water, or in the form of ro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 of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rus enters environment from rocks or depos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atite is the phosphate rock where phosphate is availa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thering and erosion releases phosphate ions that are soluble in wa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hos3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056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 then acts as fertilizers or nutrients for land pla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gets incorporated into molecules essential for life like ATP, adenosine triphosphate – this is important in storage and use of ener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 is in backbone of DNA and R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nimals and plants die, phosphates will return to the soils or oceans again during dec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rus cycles through plants and animals much faster than it does through rocks and sediments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t of phosphate goes into the water from erosion and leac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 plants use this phosphate as nutri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 is the limiting agent in growth of plants and alga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there is a lack of phosphate, plants grow slowly or are stun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too much, excess growth may occ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osphate in water is precipitated from water as ion phosphate (insolub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osphate in shallow sediment may be recycled into 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deep sediment in water, it is available as part of as part of rock formations for cycle to rep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that, phosphorus will end up in sediments or rock formations again, remaining there for millions of ye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ually, phosphorus is released again through weathering and the cycle starts ov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hosphatenat" descr=""/>
          <p:cNvPicPr/>
          <p:nvPr/>
        </p:nvPicPr>
        <p:blipFill>
          <a:blip r:embed="rId1"/>
          <a:stretch/>
        </p:blipFill>
        <p:spPr>
          <a:xfrm>
            <a:off x="1314360" y="1314360"/>
            <a:ext cx="65152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Chemistry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nme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nsity: 1823 kg/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omic radius: 100 p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lting Point: 317.3 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iling Point: 550 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hosphateag" descr=""/>
          <p:cNvPicPr/>
          <p:nvPr/>
        </p:nvPicPr>
        <p:blipFill>
          <a:blip r:embed="rId1"/>
          <a:stretch/>
        </p:blipFill>
        <p:spPr>
          <a:xfrm>
            <a:off x="1314360" y="1314360"/>
            <a:ext cx="65152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 Influences on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uman influences on phosphate cycle mostly comes from introduction &amp; use of commercial synthetic fertiliz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 obtained by mining at certain deposits of calcium phosphate called apatit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luences co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 rock and sulfuric acid are combined to make a fertilizer called “super phosphate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 are many negative effects of using this fertiliz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luences co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t of the fertilizer is lost through the water run-off because plants aren’t able to use up all of 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ntually the wasted phosphate in the water is precipitated as it settles at the bottom of the body of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luences co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some lakes &amp; ponds the phosphate can be recycled as a problem nutrie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 sources of phosphate are in out flows from local sewage treatment plan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572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s8" descr=""/>
          <p:cNvPicPr/>
          <p:nvPr/>
        </p:nvPicPr>
        <p:blipFill>
          <a:blip r:embed="rId3"/>
          <a:stretch/>
        </p:blipFill>
        <p:spPr>
          <a:xfrm>
            <a:off x="5334120" y="28954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esting F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ally, phosphorus was extracted from urin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energy intensiv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.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phosphoro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meaning “light bearer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1669, German alchemist Henning Brand discovered phosphorus from a preparation from ur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nly correct spelling of the elemen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ru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ere does exist a word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rou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but it is the adjectival form for the smaller vale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hosphorus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3792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trient Cycling in Ecosystems.” http://home.earthlink.net/~dayvdanls/ecosys4.htm 17 September 200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orus.” http://pearl1.lanl.gov/periodic/elements/15.html 17 September 200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Chemistry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ingredient to plants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fertiliz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nature, Phosphorus exists in form of Phosph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b-Elements.” http://www.webelements.com/webelements/elements/text/P/key.html 17 September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ttp://en.wikipedia.org/wiki/Phosphorus 17 September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rtual Chembook.” http://www.elmhurst.edu/~chm/vchembook/308phosphorus.html 17 September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Chemistry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s of rocks containing phosphate are fluoroapatite (3Ca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CaF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chloroapaptite, (3Ca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CaCl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and hydroxyapatite (3Ca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Ca(OH)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789280" y="2039760"/>
            <a:ext cx="3567240" cy="2712960"/>
            <a:chOff x="2789280" y="2039760"/>
            <a:chExt cx="3567240" cy="2712960"/>
          </a:xfrm>
        </p:grpSpPr>
        <p:sp>
          <p:nvSpPr>
            <p:cNvPr id="103" name=""/>
            <p:cNvSpPr/>
            <p:nvPr/>
          </p:nvSpPr>
          <p:spPr>
            <a:xfrm>
              <a:off x="2789280" y="2039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89280" y="2039760"/>
              <a:ext cx="3567240" cy="27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7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" name="b0015" descr="[Bohr Model of Phosphorus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838080"/>
            <a:ext cx="48769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 of Phosphor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common form of phosphorus is red and whi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h are tetrahedral groups of four atom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te phosphorus burns on contact with air and can change into red phosphorus when exposed to light or hea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%2C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46280"/>
            <a:ext cx="68580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hosphorus_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38240" y="795240"/>
            <a:ext cx="52689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08:12Z</dcterms:created>
  <dc:creator>745</dc:creator>
  <dc:description/>
  <dc:language>en-US</dc:language>
  <cp:lastModifiedBy>Danny Kim</cp:lastModifiedBy>
  <dcterms:modified xsi:type="dcterms:W3CDTF">2004-09-19T03:46:39Z</dcterms:modified>
  <cp:revision>25</cp:revision>
  <dc:subject/>
  <dc:title>The Phosphorus Cycle</dc:title>
</cp:coreProperties>
</file>